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1800" y="936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936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D69764-F826-40AD-BCF3-93BF0844AD82}" type="datetime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-1800" y="93092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3885840" y="93092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DF5070-071A-417A-BAF8-A14F53FF920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of using som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S = spot rate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forward rate - 1 year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£r = UK interest rate - decimal.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$r = US interes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Invest £A in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A.(1 + £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Invest in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(A.S)  (1 + $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$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ing the two riskless retur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£r-$r)/(1+£r) = (F-S)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S(1+£r)/(1+$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interest rates are constant F and S move together over time this is useful in hedging using forwards/f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9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of using som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S = spot rate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forward rate - 1 year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£r = UK interest rate - decimal.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$r = US interes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Invest £A in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A.(1 + £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Invest in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(A.S)  (1 + $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$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ing the two riskless retur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£r-$r)/(1+£r) = (F-S)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S(1+£r)/(1+$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interest rates are constant F and S move together over time this is useful in hedging using forwards/f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9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of using som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S = spot rate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forward rate - 1 year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£r = UK interest rate - decimal.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$r = US interes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Invest £A in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A.(1 + £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Invest in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(A.S)  (1 + $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$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ing the two riskless retur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£r-$r)/(1+£r) = (F-S)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S(1+£r)/(1+$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interest rates are constant F and S move together over time this is useful in hedging using forwards/f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9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of using som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S = spot rate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forward rate - 1 year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£r = UK interest rate - decimal.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$r = US interes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Invest £A in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A.(1 + £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Invest in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(A.S)  (1 + $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$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ing the two riskless retur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£r-$r)/(1+£r) = (F-S)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S(1+£r)/(1+$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interest rates are constant F and S move together over time this is useful in hedging using forwards/f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9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of using som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S = spot rate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forward rate - 1 year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£r = UK interest rate - decimal.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$r = US interes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Invest £A in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A.(1 + £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Invest in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(A.S)  (1 + $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$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ing the two riskless retur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£r-$r)/(1+£r) = (F-S)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S(1+£r)/(1+$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interest rates are constant F and S move together over time this is useful in hedging using forwards/f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9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of using som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S = spot rate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forward rate - 1 year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£r = UK interest rate - decimal.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$r = US interes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Invest £A in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A.(1 + £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Invest in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(A.S)  (1 + $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$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ing the two riskless retur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£r-$r)/(1+£r) = (F-S)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S(1+£r)/(1+$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interest rates are constant F and S move together over time this is useful in hedging using forwards/f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9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of using som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S = spot rate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forward rate - 1 year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£r = UK interest rate - decimal.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$r = US interes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Invest £A in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A.(1 + £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Invest in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(A.S)  (1 + $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$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ing the two riskless retur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£r-$r)/(1+£r) = (F-S)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S(1+£r)/(1+$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interest rates are constant F and S move together over time this is useful in hedging using forwards/f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9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of using som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S = spot rate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forward rate - 1 year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£r = UK interest rate - decimal.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$r = US interes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Invest £A in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A.(1 + £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Invest in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(A.S)  (1 + $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$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ing the two riskless retur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£r-$r)/(1+£r) = (F-S)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S(1+£r)/(1+$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interest rates are constant F and S move together over time this is useful in hedging using forwards/f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9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6C29-A643-4617-9C85-26BCA2623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1160" y="1066680"/>
            <a:ext cx="889020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1160" y="4012200"/>
            <a:ext cx="889020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967C-1498-4D92-B66B-BEDE96C77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160" y="106668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960" y="106668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1160" y="401220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6960" y="401220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D9E8-EDCA-48A2-BE15-434356BB7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60" y="1066680"/>
            <a:ext cx="2862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07160" y="1066680"/>
            <a:ext cx="2862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2800" y="1066680"/>
            <a:ext cx="2862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1160" y="4012200"/>
            <a:ext cx="2862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07160" y="4012200"/>
            <a:ext cx="2862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2800" y="4012200"/>
            <a:ext cx="2862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A31A-628C-47CF-9E14-B56125A791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1160" y="1066680"/>
            <a:ext cx="88902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D528-CA98-4C9C-AD88-6CE66764A0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1160" y="1066680"/>
            <a:ext cx="88902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0D61-7B14-4619-A9D3-65A80E43B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160" y="1066680"/>
            <a:ext cx="433836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6960" y="1066680"/>
            <a:ext cx="433836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35EA-5820-4191-9648-CD6E52FEA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D6A9-2869-43B9-9286-E26F1E4E6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813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22E4D-45AE-4BED-8C42-037705E9D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60" y="106668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6960" y="1066680"/>
            <a:ext cx="433836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1160" y="401220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5234-0EC9-486D-B5C4-53F274078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1160" y="1066680"/>
            <a:ext cx="433836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6960" y="106668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6960" y="401220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AB65-3A34-434F-89EC-884A101BD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1160" y="106668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6960" y="106668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1160" y="4012200"/>
            <a:ext cx="889020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0982-D320-4AE2-9F0F-6E719E565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118145-7E83-43B7-A540-E99056D94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solidFill>
            <a:srgbClr val="000066"/>
          </a:solidFill>
          <a:ln w="50760">
            <a:solidFill>
              <a:srgbClr val="00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01160" y="1066680"/>
            <a:ext cx="8890200" cy="5639040"/>
          </a:xfrm>
          <a:prstGeom prst="rect">
            <a:avLst/>
          </a:prstGeom>
          <a:solidFill>
            <a:srgbClr val="000066"/>
          </a:solidFill>
          <a:ln w="5076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5530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pyright K. Cuthbertson, D.Nitzs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3659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ctur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OREX Market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1/9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EC43-AC06-4D4B-819F-0C0B50417B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914040" y="152280"/>
            <a:ext cx="57150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OF PAY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990720"/>
            <a:ext cx="7962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 Account (‘Goods And Service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 export receipts minus import pay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Accoun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inward investment into domestic assets (=receipts) minus outward investment (=pay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vestment’ can be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portfolio investment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(into bank account or shares) - ‘speculativ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or can be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direct investment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(e.g. foreigner buys the Dorches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Note:  If the UK government could legally print USD there would be no balance of payments probl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7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7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6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C47C-342D-48FB-8D4A-5087B0917A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765792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9000"/>
          </a:bodyPr>
          <a:p>
            <a:pPr marL="99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rchasing Power Parity PP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9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9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ce Competitive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66760" y="990720"/>
            <a:ext cx="8686800" cy="55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1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1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2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7CC6-51BD-4F7E-9547-BB1F65F5F40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720" y="114120"/>
            <a:ext cx="65340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PP: “Law of One Price”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680" y="1147320"/>
            <a:ext cx="792504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et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H= Harrod’s Ham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= Sak’s Ham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po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$P(SH) = $200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£P(HH) = £100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 = 2 $ per 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n to a UK resident the price of SH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terl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same as H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K is ‘price competitive’ and there is no incentive to switch purchases of goods between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‘special situation’ is know as purchasing power parity P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4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4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F6F5-E144-4063-B9B6-95AD8711C69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14480"/>
            <a:ext cx="67626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chasing Power Parity (PPP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925040" cy="50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w of One Pr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that if PPP holds at all times th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e prices’ = $200/£100 =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 must equal the current exchange rate, S  (=2$/£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ce algebraically PPP can be expre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P / £P  =  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e prices’ is often referred to as ‘the PPP exchange rate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8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8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4" name=""/>
          <p:cNvSpPr/>
          <p:nvPr/>
        </p:nvSpPr>
        <p:spPr>
          <a:xfrm>
            <a:off x="9907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D10B-87F5-48D4-8524-1B4DE1A46CE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040" y="43920"/>
            <a:ext cx="807732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 S ($/£)= ______ and Relative Pri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elative prices = ‘PPP-Exchange Rate’=   ----- 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1160" y="1066680"/>
            <a:ext cx="88902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990720" y="915840"/>
          <a:ext cx="8151840" cy="571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15840"/>
                    <a:ext cx="8151840" cy="57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2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2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9907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45DB-3724-44DB-8D14-216D3E00B6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33360" y="196560"/>
            <a:ext cx="647676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gure 16.3: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German Mark - Pound Sterling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Actual and PPP Exchange Rate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990720" y="1523880"/>
          <a:ext cx="80010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8001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5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6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9" name=""/>
          <p:cNvSpPr/>
          <p:nvPr/>
        </p:nvSpPr>
        <p:spPr>
          <a:xfrm>
            <a:off x="990720" y="12952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A34A-10D3-4332-87F4-1271746180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603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gure 16.4: French Franc - German Mark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Actual and PPP Exchange Rate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1143000" y="914400"/>
          <a:ext cx="80010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8001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9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9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6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2905-125F-4B96-A1F7-0840EAABE0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914400" y="343080"/>
            <a:ext cx="784872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tion Of £ Improves UK Competit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066680" y="1752480"/>
            <a:ext cx="78868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P(HH) = £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P(SH) = $200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= 2 $/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LING DEPRECIATION TO  S=1.8 $/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HH to US resident is now $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SH to UK resident is now £1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3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3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2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D1B8-74F6-444F-9DDF-88266EB3FCF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1485720" y="2781360"/>
            <a:ext cx="7429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xed Exchange Rat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6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6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7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8775-FC65-4C3F-B8F2-2EA9A131211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876240" y="266760"/>
            <a:ext cx="74296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IXED EXCHANGE RATE POLICY: UK INF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066680" y="1447920"/>
            <a:ext cx="7886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H rises in price to £P(HH) = £110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=2$/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nce SH is cheaper for UK resident at £100  (ie, $20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K residents sell £ (and buy USD).  Government uses FX-reserves to supply USD at 2 $/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X-reserves are falling - borrow from IM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ll have to reduce UK 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POLICY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th fixed FX-rate your price level (inflation) is determined by the foreign pric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0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0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3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E699-B05C-44BC-B410-87F90B572F3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93440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vestments:Spot and Derivative Market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Cuthbertson and D.Nitzs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HAPTER 1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excluding p. 454-457, p461-477, Section 15.7 and Appendix 15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HAPTER 16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s 16.1 and 16.2 and Box 16.2 and 16.3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990720" y="6094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39960" y="0"/>
            <a:ext cx="7518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8097-FB4D-43C1-9F3E-82C169CF57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837720" y="190440"/>
            <a:ext cx="758196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IXED EXCHANGE RATE POLICY: UK INF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66680" y="990720"/>
            <a:ext cx="7886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ON CAPITAL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reduce UK inflation you can raise interest rates (tight monetary poli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’ CAPITAL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raise UK interest rates, have massive capital inflow (if fixed rate is credible policy) which will put upward pressure on sterli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ce cannot have an independent interest rate policy - reducing inflation will need fiscal poli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3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4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365A-005C-4538-8BC2-85FD2A50EE8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914400" y="190440"/>
            <a:ext cx="7277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IXED EXCHANGE RATE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66680" y="1219320"/>
            <a:ext cx="7886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Bretton Woods 1945-19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 Rounded MT Bold"/>
              </a:rPr>
              <a:t>USD as “anchor currenc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 Rounded MT Bold"/>
              </a:rPr>
              <a:t>IMF - payments imbalances/deval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 Rounded MT Bold"/>
              </a:rPr>
              <a:t>Gold at $35 per oz. (Fort Kno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 Rounded MT Bold"/>
              </a:rPr>
              <a:t>USD = world’s trading currency(Seignior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 Rounded MT Bold"/>
              </a:rPr>
              <a:t>Oil Crisis 1973 and 19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 Rounded MT Bold"/>
              </a:rPr>
              <a:t>Inflation rates differ = “strai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7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7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5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9EE5-0276-4053-889B-FC03F8A345C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914040" y="114120"/>
            <a:ext cx="7658280" cy="4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IXED EXCHANGE RATES : 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685800"/>
            <a:ext cx="78868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duces price uncertainty for exporters/impor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have to accept the inflation rate of the ‘larger’ country.  Cannot have an independently chosen inflation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you have higher ‘core’ inflation than larger country you will have to have contractionary fiscal policy (and unemploy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 ‘free’ capital flows your interest rate must equal that of the larg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need to borrow foreign exchange - if you then devalue this is costly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81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1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1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1D66-D402-497A-8F3B-3F82746556E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1142640" y="236196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ating Exchange 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371600" y="914400"/>
            <a:ext cx="70484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84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4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E0FB-65DF-43CC-851F-854B26495BE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/>
          </p:nvPr>
        </p:nvSpPr>
        <p:spPr>
          <a:xfrm>
            <a:off x="914400" y="190440"/>
            <a:ext cx="74296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LOATING EXCHANGE RATES : UK INF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914400" y="990720"/>
            <a:ext cx="7886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P= £110  and S currently at $2 per 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 is cheaper than HH and demand for USD increases and USD appreciates (and sterling depreci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tion of £ implies an improvement in UK competitiveness to offset the higher £-price of 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Policy Result (ignoring capital acc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inflation countries have a depreciating exchange rate (which offsets some or all of loss of competitiveness due to high inflation)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88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8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3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DB4F-736A-467F-B00A-54DDD0AF9FB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952560" y="266760"/>
            <a:ext cx="7657920" cy="41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LOATING EXCHANGE RATES : UK INF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914400" y="1143000"/>
            <a:ext cx="7886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S falls to exactly 1.818181 $/£ the SH would also cost £110 for a UK resident and price competitiveness is re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UT N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exactly restore price competitiveness requires the specific exchange rate of 1.8181 and decisions by ‘rational’ FX-speculators might not result in this exact rate - see overshooting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LSO N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can raise your interest rate to try and reduce infl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y capital inflow will tend to raise sterling FX rate which will put downward pressure on UK inflation (as export sector becomes less competi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1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2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9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C71A-8C7B-4DE7-A708-3937563FEF8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876240" y="152280"/>
            <a:ext cx="7886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FLOATING EXCHANGE RATES :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914400" y="1600200"/>
            <a:ext cx="7962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X-rate is free to move (under market forces) and (ignoring capital flows) will tend to restor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price competi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have a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dependent interest rate polic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hence influence your own inflation rate over the longer term (3-5 years)  and your unemployment rate over the short term (1-3 ye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r interest rate policy has implications for the exchange rate - although difficult to pred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nger is that FX-speculators will cause ‘wild’ movements in FX-rate and adversely alter price competitivenes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ce uncertainty’ removed by using the forward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5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5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5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ADFD-B02A-47F0-80D2-5CCB224993E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218960" y="2590920"/>
            <a:ext cx="73911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covered Interest Parity 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xchange Rate Overshooting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9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9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1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90CC-9F55-4E58-A5BE-0A8E5558C9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372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vered Interest Arbitrage (Parity) (UIP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‘Smart’ , ‘rational’ Speculators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afd00"/>
                </a:solidFill>
                <a:latin typeface="Arial"/>
              </a:rPr>
              <a:t>UIP is a specific (equilibrium) relationship between domestic and foreign interest rates and th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expected</a:t>
            </a:r>
            <a:r>
              <a:rPr b="0" lang="en-GB" sz="2200" spc="-1" strike="noStrike">
                <a:solidFill>
                  <a:srgbClr val="fafd00"/>
                </a:solidFill>
                <a:latin typeface="Arial"/>
              </a:rPr>
              <a:t> depreciation of a currency whereby </a:t>
            </a:r>
            <a:r>
              <a:rPr b="0" lang="en-GB" sz="2200" spc="-1" strike="noStrike" u="sng">
                <a:solidFill>
                  <a:srgbClr val="fafd00"/>
                </a:solidFill>
                <a:uFillTx/>
                <a:latin typeface="Arial"/>
              </a:rPr>
              <a:t>speculators</a:t>
            </a:r>
            <a:r>
              <a:rPr b="0" lang="en-GB" sz="2200" spc="-1" strike="noStrike">
                <a:solidFill>
                  <a:srgbClr val="fafd00"/>
                </a:solidFill>
                <a:latin typeface="Arial"/>
              </a:rPr>
              <a:t> have </a:t>
            </a:r>
            <a:r>
              <a:rPr b="0" lang="en-GB" sz="2200" spc="-1" strike="noStrike" u="sng">
                <a:solidFill>
                  <a:srgbClr val="fafd00"/>
                </a:solidFill>
                <a:uFillTx/>
                <a:latin typeface="Arial"/>
              </a:rPr>
              <a:t>no incentive to switch</a:t>
            </a:r>
            <a:r>
              <a:rPr b="0" lang="en-GB" sz="2200" spc="-1" strike="noStrike">
                <a:solidFill>
                  <a:srgbClr val="fafd00"/>
                </a:solidFill>
                <a:latin typeface="Arial"/>
              </a:rPr>
              <a:t>  their funds between different count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afd00"/>
                </a:solidFill>
                <a:latin typeface="Arial"/>
              </a:rPr>
              <a:t>We assume that speculators (as a whole) are only concerned about th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expected return</a:t>
            </a:r>
            <a:r>
              <a:rPr b="0" lang="en-GB" sz="2200" spc="-1" strike="noStrike">
                <a:solidFill>
                  <a:srgbClr val="fafd00"/>
                </a:solidFill>
                <a:latin typeface="Arial"/>
              </a:rPr>
              <a:t> on their investments (ie. They are “</a:t>
            </a:r>
            <a:r>
              <a:rPr b="0" lang="en-GB" sz="2200" spc="-1" strike="noStrike" u="sng">
                <a:solidFill>
                  <a:srgbClr val="fafd00"/>
                </a:solidFill>
                <a:uFillTx/>
                <a:latin typeface="Arial"/>
              </a:rPr>
              <a:t>risk neutral</a:t>
            </a:r>
            <a:r>
              <a:rPr b="0" lang="en-GB" sz="2200" spc="-1" strike="noStrike">
                <a:solidFill>
                  <a:srgbClr val="fafd00"/>
                </a:solidFill>
                <a:latin typeface="Arial"/>
              </a:rPr>
              <a:t>”).  They know their ‘bets’ are risky but this does not influence their decis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: Expected (or forecast of the )spot rate in 1 years time = “ES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02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02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7" name=""/>
          <p:cNvSpPr/>
          <p:nvPr/>
        </p:nvSpPr>
        <p:spPr>
          <a:xfrm>
            <a:off x="9907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117F-9D48-41E1-A784-08D0D5FDB11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238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covered Interest Arbitrage (Parity) (UIP)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WHAT GIVES BEST EXPECTED PAYOUT (IN USD) FOR US RESID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1) r(UK) = r(US) = 2%,  and       Current S</a:t>
            </a:r>
            <a:r>
              <a:rPr b="0" lang="en-GB" sz="2200" spc="-1" strike="noStrike" baseline="-25000">
                <a:solidFill>
                  <a:srgbClr val="ffff00"/>
                </a:solidFill>
                <a:latin typeface="Arial"/>
              </a:rPr>
              <a:t>t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 = 1 $/£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recast,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r>
              <a:rPr b="0" lang="en-GB" sz="2200" spc="-1" strike="noStrike" u="sng" baseline="-25000">
                <a:solidFill>
                  <a:srgbClr val="ffffff"/>
                </a:solidFill>
                <a:uFillTx/>
                <a:latin typeface="Arial"/>
              </a:rPr>
              <a:t>t+1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 = 0.5 $ per £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(ie. expected depreciation of sterl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US speculator: $100 of funds from US to UK or vice-versa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) r(UK) = 3%,  r(US) = 2%, (ie. interest differential of 1%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urrent S = 1 $/£,       Forecast,   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r>
              <a:rPr b="0" lang="en-GB" sz="2200" spc="-1" strike="noStrike" u="sng" baseline="-25000">
                <a:solidFill>
                  <a:srgbClr val="ffffff"/>
                </a:solidFill>
                <a:uFillTx/>
                <a:latin typeface="Arial"/>
              </a:rPr>
              <a:t>t+1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 = 0.99029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$/£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.e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 Expecte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depreciation of sterling of  about 1%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06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06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3" name=""/>
          <p:cNvSpPr/>
          <p:nvPr/>
        </p:nvSpPr>
        <p:spPr>
          <a:xfrm>
            <a:off x="99072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1DCC-5CB0-406B-A3BF-10D65000C3E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s: Spot, Forward and Balance of Pay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P -Price Competit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ed Exchange Rate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ating Exchange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vered Interest Parity/ Exchange Rate Overshoo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Union -EMU: Polic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914040" y="2286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2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2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3567-1A36-4AD5-80D0-AA61E4D0B8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448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covered Interest Arbitrage (Parity) (UIP)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mart Speculato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UIP =. ‘no switching of funds by speculator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is will occur whe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ected (%) depreciation of ster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 Interest differential in favour of the UK= (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r(UK) = 3% p.a.  r(US) = 2%, (ie. interest differential of 1%) then ‘no switching of funds’ when speculators think that sterling will depreciate by 1% over the coming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09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0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9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7447-FAA0-493E-875B-551BA33C528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5247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covered Interest Arbitrage (Parity) (UIP)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mart Speculato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sume UIP is correct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the UK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ready h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‘high’ interest rates this implies that speculator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xp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terling to depreciat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ver the coming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 that the above says nothing about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rrent lev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the exchange rate S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The current level of the exchange rat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or may not) be ‘high’ , but all CIP implies is that whatever the value of S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now, speculators believe it will fal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 the future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3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3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5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4D58-8345-444F-97F1-2779E211BD7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LICY IMPLICATIONS OF  UIP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RATE OVERSHOOT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rt: UIP hold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0%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ected depn £ = 0% (ie you expect spot rate to remain constant over coming year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re the implications for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rrent spot ra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xpected  rise in UK interest rates by 2% by the MP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If speculators </a:t>
            </a:r>
            <a:r>
              <a:rPr b="0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initially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believe that sterling will remain constant then US investors will want to buy UK bonds and hence they buy spot £ ,  pushing up the sterling Ex-Rat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7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7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1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32BB-39AD-4D65-9BE1-6B1720706D6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CY IMPLICATIONS OF  UI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RATE OVERSHOOT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How high will </a:t>
            </a:r>
            <a:r>
              <a:rPr b="0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todays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spot rate ris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Sterling will appreciate</a:t>
            </a:r>
            <a:r>
              <a:rPr b="0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 today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until it gets so high that US investors </a:t>
            </a:r>
            <a:r>
              <a:rPr b="0" i="1" lang="en-GB" sz="2400" spc="-1" strike="noStrike">
                <a:solidFill>
                  <a:srgbClr val="fafd00"/>
                </a:solidFill>
                <a:latin typeface="Arial"/>
              </a:rPr>
              <a:t>think it will fall by 2%</a:t>
            </a:r>
            <a:r>
              <a:rPr b="0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ver the coming year</a:t>
            </a:r>
            <a:r>
              <a:rPr b="0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.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Now UIP is restored and capital inflows into the UK will ce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20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20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7" name=""/>
          <p:cNvSpPr/>
          <p:nvPr/>
        </p:nvSpPr>
        <p:spPr>
          <a:xfrm>
            <a:off x="9907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2EEC-D744-4E89-B405-B8C2D2B0FE6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ing UIP: Exchange rate Overshooting </a:t>
            </a: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crease in UK interest rates = ‘T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ght’ Monetary Polic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523880" y="2209680"/>
            <a:ext cx="0" cy="403884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523880" y="4952880"/>
            <a:ext cx="67057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124080" y="4952880"/>
            <a:ext cx="0" cy="2286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705720" y="5029200"/>
            <a:ext cx="0" cy="2286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295280" y="2590920"/>
            <a:ext cx="2286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295280" y="3886200"/>
            <a:ext cx="2286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838080" y="23623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.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62120" y="365760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523880" y="3886200"/>
            <a:ext cx="167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320040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200400" y="2590920"/>
            <a:ext cx="3429000" cy="76176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629400" y="335268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819520" y="2590920"/>
            <a:ext cx="53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590920" y="388620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2" marL="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1752480"/>
            <a:ext cx="4876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depreciation of 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971800" y="525780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543800" y="518148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295280" y="3352680"/>
            <a:ext cx="2286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62120" y="32004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477120" y="2971800"/>
            <a:ext cx="53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3352680" y="2057400"/>
            <a:ext cx="6098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523880" y="3352680"/>
            <a:ext cx="5029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181480" y="2666880"/>
            <a:ext cx="327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38080" y="1295280"/>
            <a:ext cx="2057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eci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terling, $ per 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248520" y="3581280"/>
            <a:ext cx="3276360" cy="118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 = Final ‘long run’ level for Exchange 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48520" y="5257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1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26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26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8" name=""/>
          <p:cNvSpPr/>
          <p:nvPr/>
        </p:nvSpPr>
        <p:spPr>
          <a:xfrm>
            <a:off x="99072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6EA5-357D-4E29-A5D3-64CA418316D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990720" y="114120"/>
            <a:ext cx="73720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vershooting:   UIP+’STICKY’ PRIC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942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ppreciation of sterl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overshooting of the exchange rate leads to an immediat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loss of UK competitivenes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 Exports fall (and imports increase), which further exacerbates th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recessio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itially caused by the rise in interest r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recession may last for 2-5 years -severe probl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can also be exacerbated if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“the he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” (e.g. chartists) follow the “rational speculators” and buy spot sterling when it begins to rise, thus pushing sterling up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even furth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e longer term the economy may return to its ‘normal’ growth path and interest rates in the two countries may be again be equalised (this is a “big”, involved and complex stor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30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0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4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2F9A-D931-422D-A714-3941C03F54F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523520" y="3238200"/>
            <a:ext cx="699156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rrency Unions - EMU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licy Issu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219320" y="1181160"/>
            <a:ext cx="670536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33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4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0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219320" y="6629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9CBF-DA6E-4F6F-A456-DA8AB2D8336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3520" y="69480"/>
            <a:ext cx="698472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URRENCY UNION:“Single currency”:EMU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219320" y="990360"/>
            <a:ext cx="77342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ke a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rrevocabl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ixed exchange rate reg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independent interest rate policy (ECB, Frankfu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st accept the inflation rate of other member states (OR UNEMPLOYMENT IF HIGH INFL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ices are ‘transparent’  and ‘uncertainty’ removed 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ithin Euroland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lected MPC in Threadneedle St or in Frankfurt 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37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7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6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219320" y="6629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6473-49AA-4562-9BD0-B0BAC190D2B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69480"/>
            <a:ext cx="62229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ngle currency”:EMU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796284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(‘size’)   interest rate fits all ? (In EM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Symmetric country ‘shock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mployment increases (equally) in all states.  ECB lowers interest rates - ‘no problem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Asymmetric “shock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mployment in Scotland, a boom in Germany.  ECB keeps interest rates hig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Solu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ll in (real) wages in Scotland and work comes to the workers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ots migrate to 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fare expenditure in UK incr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41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2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219320" y="6629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BAF7-E029-4499-B8A9-BA3CF8742D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914040" y="69480"/>
            <a:ext cx="637524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ngle currency”:EMU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SCAL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budget defici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welfare pay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ension commitments of the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be financed by issuing say Italian government bonds, denominated in E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ault and bail-out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get deficit limited to 3% (on average) of GDP - otherwise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44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44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8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9320" y="6629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A5CA-1F66-46B4-918D-3F30EF5211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198108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sic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5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5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B30D-B845-452B-B249-C798D4520C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744192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OF LECTURE / SLID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48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48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4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D166-A551-4EF1-AA63-E7B035A2764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96920"/>
            <a:ext cx="721368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ot Rates: Terminolgy  and SWIFT cod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WIFT’ Cod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‘TELEPHON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rling - $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BP/US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b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nch Franc-$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FRF/US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utsche Mark-$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M/US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llar-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wiss Franc-$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CHF/US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wis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en-$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PY/US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ill and 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  e.g. Dollar - Ster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sterling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ppreciate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n the USD must hav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epreciated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  Appreciation of sterling from  2.0 $ per £ to 2.1 $ per £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9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9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EDEB-93A4-498B-8DC8-2881019DFA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 FX-mark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ks in Lond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(“screens” \ telephone \ back offic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pot settled in 2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usines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 participants (50 large banks-”own book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10-12 FOREX bro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ling spreads, commission, trading pro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tional Commodities Clearing House (ICCH) - transfer of f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3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E092-9A33-45A3-A9FA-0774DF0BE5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16256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ward Mark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91880" y="1066680"/>
            <a:ext cx="744228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ract made today for delivery in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ward rate is “price” agreed,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. One -year Forward rate = 1.5 $ / 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gree to purchase £100 ‘s 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1-year, receive £1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pay-out          $1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6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6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4337-6409-439E-82F4-0309245C0E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7569360" cy="102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k Calculates Outright Forward Quo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58360" y="1066680"/>
            <a:ext cx="88902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(quote)    =   S    [ ( 1 +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)  /  ( 1 +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k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) 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vered interest parity (CI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Also No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and 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k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re relatively constant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 and S will move together (positive corre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0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0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DCA0-68DC-4B8D-B8D2-535D025A16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62120" y="152280"/>
            <a:ext cx="63626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 Rate Reg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990720"/>
            <a:ext cx="79628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ixed Exchange Rates (Crawling P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in practice, these are ‘narrow bands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ure Float (eg. USD-Yen, USD-Eu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- sometimes Central Bank inter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ommon Currency (EMU), Mexico-U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rrency Board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- form of fixed exchange rate where domestic currency is altered one-for-one with FX-reserves - ie. net FX receipts (Hong-Kong, Latvia, Agent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3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3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525680" y="1384200"/>
          <a:ext cx="609732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384200"/>
                    <a:ext cx="60973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ECC4-AAB0-4F40-AA01-4C4FDF081AE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1T10:27:32Z</dcterms:created>
  <dc:creator>Dept. of Economics</dc:creator>
  <dc:description/>
  <dc:language>en-US</dc:language>
  <cp:lastModifiedBy>Keith Cuthbertson</cp:lastModifiedBy>
  <cp:lastPrinted>2001-09-26T17:39:00Z</cp:lastPrinted>
  <dcterms:modified xsi:type="dcterms:W3CDTF">2001-10-03T17:48:57Z</dcterms:modified>
  <cp:revision>87</cp:revision>
  <dc:subject/>
  <dc:title>CONSEQUENCES OF MM</dc:title>
</cp:coreProperties>
</file>